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2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مستخدم مقتنع بـ Microsoft Office" initials="ممبM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29.xml><?xml version="1.0" encoding="utf-8"?>
<p:cmLst xmlns:p="http://schemas.openxmlformats.org/presentationml/2006/main">
  <p:cm authorId="0" dt="2002-09-21T13:39:01.000000000" idx="1">
    <p:pos x="-1583" y="309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1080" y="868500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082E1-B4DD-493F-AD20-31498FA959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0FF7A-0C10-43AB-A6AA-E99BDC34E4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71DAF-557F-4BF6-A077-DE273FE5CB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CB106-CA33-40EB-B3CF-A3059F2F91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D04DC-72FD-405D-BE0F-ED7DABF559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831E7-5F4C-446B-B43C-F44F085E5A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15C22-2CF6-4C46-A188-48536197B6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1A7ED-1FAA-4B6C-8903-9C53AE8CEE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BADF7-E15A-4654-8AF2-211D5981DD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69213-A0AD-4A3A-AE67-5EFE3FAB36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9B19D-A843-4765-BCFD-8E3C2E8EC7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532A9-1E1C-41F6-BF62-BDEC6359E0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6F5FE-050F-4503-9B82-3C862945989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5962F-97B6-4B88-9DAF-229B1D0482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E8643-9D92-483F-B3BB-FA56DE8B04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D4135-0523-4A0A-B08E-A70AEC4FC5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0D726-16CF-421C-BD39-69E0B77B89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3CFC9-77EB-4F54-A4C3-3242030C02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41371-67A2-499B-AC11-85FB1158B8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FDCDE-73B9-4F7C-87F5-EF832ECCCC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70EC6-ED5A-41C7-A1F0-AA45862959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E51BA-DF24-424D-99AB-1B66719AA5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15FB-755A-4FC6-934F-51BDE2CE60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74C0D-256E-4A84-89DA-09500665F1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688D6-A177-4942-A80B-06D62BA7A4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EAEAD-DAC0-4484-A036-7A6C628862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2D1D7-64C7-4831-A27B-75EBA7A6C4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58F6F-0504-4428-A9FD-1191672C6D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7322-6B1E-41D2-9380-920B705091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E7AA5-2496-4F54-B98D-6C8A6D5EEE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F8F62-D063-441D-B57A-9D6457336B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24EAE-C467-413C-8497-DAE0986656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DAE1B-C408-4DDC-A6FC-6588B4EB28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35C1E-6519-4A69-B005-B22F8AA4F8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A8FCB-5E3A-40CD-BDDE-9A82329D35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B5AFB-929E-4518-A7F1-4D84A33A9A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D8BC4-5DB3-40C9-AC5B-411A4CB4AE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35F0-9FCC-4805-AB60-843938E1AD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D496F-BEAF-4B56-A57C-6D594219B6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8D22-111B-43F2-A929-8E1852F77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084C-E9EC-4DF4-8D15-8971AF406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DBAE-DE30-4600-A406-C2B7C3DB1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FDD4-0CFE-480B-99DD-A3F50A385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68B6-E468-4E81-A593-A2919C5F9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0147-A59B-48E5-9AC9-E65463521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AFD8-E15E-403F-8700-49665577B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D857-BC8B-4EEE-B120-FDAC6ADFE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91E9-40EF-41E2-956E-9F48DDEA3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F361-09A0-4DCB-BE89-DD03AAD98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8B03-2F28-4AB8-947D-54DD002AB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81E3-6196-4AB2-B3DA-A615DC2E7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244B4-7D91-4093-AA9E-77DFB3CE73D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03265-2D11-42E9-AB9D-278B9FD74AB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66560" y="3985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roadway"/>
              </a:rPr>
              <a:t>MARKETING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63640" y="213372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00ccff"/>
                </a:solidFill>
                <a:latin typeface="Arabic Typesetting"/>
              </a:rPr>
              <a:t>الخطة التسويقي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32000" y="5877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4D935-4B39-41B0-9739-1A5C006DC0E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53964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ليل المشكلات والمعوقات داخل المنشأ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ويل المعطيات الخارجية إلى فرص تسويق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D9753-6B12-4973-BF45-8CE9B229EEA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5271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تطوير الاستراتيجية الحال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1912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عاون متكاملة لإتمام العمل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692360" y="242100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98760" y="18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سويق متكامل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F26C0-8886-4FFF-9411-D2D0ACA777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نفيذ لعمليات التسويق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3429000"/>
            <a:ext cx="8229600" cy="2016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13d955"/>
                </a:solidFill>
                <a:latin typeface="Courier New"/>
                <a:cs typeface="Tahoma"/>
              </a:rPr>
              <a:t>جميع هذه القرارات أو بعضها يعتبر استراتيجياً والبعض الآخر تنظيمي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9528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المراقبة المستمرة والتوجيه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7777-BB5B-4845-8463-5317E92BCE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419640" y="2739960"/>
            <a:ext cx="2016000" cy="901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SWOT</a:t>
            </a: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13d955"/>
                </a:solidFill>
                <a:latin typeface="Tahoma"/>
              </a:rPr>
              <a:t>ق ض ف 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556000" y="969840"/>
            <a:ext cx="3456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فر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43280" y="5373720"/>
            <a:ext cx="28083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تحديات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121440" y="3103560"/>
            <a:ext cx="298764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ضع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280" y="3043080"/>
            <a:ext cx="2340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قـو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eng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284720" y="1413000"/>
            <a:ext cx="1440" cy="115236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284720" y="4221000"/>
            <a:ext cx="1440" cy="115272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411280" y="3284640"/>
            <a:ext cx="79236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292720" y="3357720"/>
            <a:ext cx="79200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B9745-F179-492B-A98D-7ECDE5FF10B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197000"/>
            <a:ext cx="8362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ليل نقاط الضعف ونقاط القوة في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شركة والفرص والتحديات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47640" y="2060640"/>
            <a:ext cx="69343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  <a:ea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43280" y="465300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58F5-62C9-4F7A-ABBB-6FBBBB1DE04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125360"/>
            <a:ext cx="843588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Times New Roman"/>
              </a:rPr>
              <a:t>إن بحوث التسويق ضرورية لمعرفة التهديدات والمخاطر في البيئة السوقية المحيطة بالشركة والتي لا يمكن السيطرة عليها وموطن الضعف والقوة التي يمكن السيطرة عليها ، من أجل التخطيط الصحي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DDBDC-8849-485C-9B1F-4A4AAD41263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82872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تعريف بحوث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16000" y="2552760"/>
            <a:ext cx="7128000" cy="3659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badi MT Condensed Light"/>
                <a:cs typeface="Simplified Arabic"/>
              </a:rPr>
              <a:t>هي جمع وتسجيل وتحليل البيانات التسويقية المتعلقة بالمشكلة موضع البحث ودراستها واتخاذ القرار التسويقي المناسب</a:t>
            </a:r>
            <a:r>
              <a:rPr b="1" lang="en-US" sz="3600" spc="-1" strike="noStrike">
                <a:solidFill>
                  <a:srgbClr val="ffcc00"/>
                </a:solidFill>
                <a:latin typeface="Abadi MT Condensed Light"/>
                <a:ea typeface="Simplified Arab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07E32-E408-430E-8458-09899533E5D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260280"/>
            <a:ext cx="8619840" cy="839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زايا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1268280"/>
            <a:ext cx="8672400" cy="46818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أولويات  الأنشط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جيدة بمواصفات السلع ومتغيرات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خدام الأسس العلمية في وضع الاستراتيجي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كتشاف الفرص التسويقي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70D17-D756-4FE8-90A5-2C54D64F2A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4920" y="189000"/>
            <a:ext cx="8964720" cy="86652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32098f"/>
                </a:solidFill>
                <a:latin typeface="Tahoma"/>
                <a:cs typeface="Tahoma"/>
              </a:rPr>
              <a:t>تشمل عملية التخطي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74920" y="1557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بدء ببحوث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1280" y="2565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وقوف على مواضع القوة والضعف 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68360" y="3573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موضع الشركة في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-324000" y="4581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خطة التسويقية بالتركيز على مواقع القوة</a:t>
            </a: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 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7FCDB-6F06-435B-AF81-78214EE6F9B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200" y="33984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بؤ بحجم المبيعات المتوق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581120" y="143496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استراتيجيات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25322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موازنة الخاصة ب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50920" y="36291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صميم المنتج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4920" y="47260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في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8200" y="582300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رقابة والمتابعة للخط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3A6CF-0509-469F-A6C2-5A9F1E9DF68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144360" y="144360"/>
            <a:ext cx="8745480" cy="1913040"/>
            <a:chOff x="144360" y="144360"/>
            <a:chExt cx="8745480" cy="1913040"/>
          </a:xfrm>
        </p:grpSpPr>
        <p:sp>
          <p:nvSpPr>
            <p:cNvPr id="56" name="AutoShape 3"/>
            <p:cNvSpPr/>
            <p:nvPr/>
          </p:nvSpPr>
          <p:spPr>
            <a:xfrm>
              <a:off x="144360" y="144360"/>
              <a:ext cx="8745480" cy="19130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289080" y="662040"/>
              <a:ext cx="845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ar-SA" sz="5400" spc="-1" strike="noStrike">
                  <a:solidFill>
                    <a:srgbClr val="32098f"/>
                  </a:solidFill>
                  <a:latin typeface="Courier New"/>
                  <a:cs typeface="Courier New"/>
                </a:rPr>
                <a:t>الخطة التسويقية</a:t>
              </a: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539640" y="3284640"/>
            <a:ext cx="8209080" cy="2908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abic Transparent"/>
              </a:rPr>
              <a:t>هو عبارة عن خطة توضع لبلوغ هدف الشركة التسويق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FAAA4-14EA-494E-B98B-B384C50757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333360"/>
            <a:ext cx="8569080" cy="79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جالات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2205000"/>
            <a:ext cx="7772400" cy="4248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حجم وطبيعة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أسواق الرئيس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اتجاهات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ة السوقية ل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عدد عملاء الشركة وطبيع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059280" y="1341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1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264BF-89A7-49C9-80C3-E96CC51B8B9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00000" y="620640"/>
            <a:ext cx="779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نافس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4360" y="1989000"/>
            <a:ext cx="7772400" cy="4032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طبيعة وحجم المنافسين وتوزع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نقاط الضعف والقو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للمنتجات المنافس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قارنة المنتجات المنافسة والتعرف على المنتجات الجديدة والبديل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1FEFE-5CA1-43B0-B2FC-6FDB9A8659F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79360" y="560520"/>
            <a:ext cx="7050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بيعا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32000" y="1773360"/>
            <a:ext cx="6902280" cy="44352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ليل المبيعات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لمناطق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فعالية السياس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إيجاد البدائل في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ص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51A04-DFC1-4107-8658-875924797C9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689280" y="828720"/>
            <a:ext cx="45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4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ل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03240" y="1989000"/>
            <a:ext cx="7772400" cy="37544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سلع المناف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وصف السل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لتعرف على متطلبات وحاجات المستهلك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فرص إنتاج سلع جدي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D4580-F6EA-422E-8AF5-E6E22A22B23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42920" y="765000"/>
            <a:ext cx="779328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5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رويج والإعلا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9640" y="1989000"/>
            <a:ext cx="8271000" cy="43927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نظرة شاملة عن الاستراتي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أساليب الترويج المتوفر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وسائل الإعلان والرسائل الإعلانية المتواجدة في الأسواق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ستراتيجية الترو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54C43-426C-48A6-B3BD-BCE6648038C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549520" y="898560"/>
            <a:ext cx="5756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6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وزيع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42920" y="2017800"/>
            <a:ext cx="7416720" cy="43639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راتيجية التوزي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منافذ التوزيع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منافذ التوزيع الخاصة با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فعالية التوزيع الم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أسس اختيار الموزع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CABE2-6ADE-4418-A2A8-44607118896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11280" y="476280"/>
            <a:ext cx="8188200" cy="865080"/>
          </a:xfrm>
          <a:prstGeom prst="rect">
            <a:avLst/>
          </a:prstGeom>
          <a:solidFill>
            <a:srgbClr val="2b548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e5ffff"/>
                </a:solidFill>
                <a:latin typeface="Tahoma"/>
                <a:cs typeface="Tahoma"/>
              </a:rPr>
              <a:t>خطوات البحث التسويق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55640" y="2205000"/>
            <a:ext cx="7920000" cy="27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ديد الهدف من البحث وتحديد المشكلة وأسبابها بشكل دقيق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A5D87-724F-4D85-AD84-7391A6D7A66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556000" y="260280"/>
            <a:ext cx="4481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  <a:cs typeface="Tahoma"/>
              </a:rPr>
              <a:t>تحديد المشكل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116000" y="2133720"/>
            <a:ext cx="75517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عوائق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ستغلال الفرص التسويقية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23614-EEFC-42F1-8CCD-4BE51072024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826920" y="1628640"/>
            <a:ext cx="7705800" cy="453564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883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خطوات تعريف المشكلة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عري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عرف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سبب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تعر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بعم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على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أعراض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حديد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هد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ن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والخطو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واجب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إتباعها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لإتمام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طلوب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95F8F-249E-47C5-A3A1-1CC236C5237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476280"/>
            <a:ext cx="9144000" cy="1620720"/>
          </a:xfrm>
          <a:prstGeom prst="rect">
            <a:avLst/>
          </a:prstGeom>
          <a:gradFill rotWithShape="0">
            <a:gsLst>
              <a:gs pos="0">
                <a:srgbClr val="d4d4e2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32098f"/>
                </a:solidFill>
                <a:latin typeface="Tahoma"/>
              </a:rPr>
              <a:t>عوامل أساسية لإتمام بحوث التسويق بنجا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68360" y="27813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0066"/>
              </a:buClr>
              <a:buFont typeface="Wingdings" charset="2"/>
              <a:buChar char="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التوقيت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                 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9900"/>
              </a:buClr>
              <a:buFont typeface="Arabic Transparent"/>
              <a:buChar char="£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9900"/>
                </a:solidFill>
                <a:latin typeface="Tahoma"/>
                <a:cs typeface="Tahoma"/>
              </a:rPr>
              <a:t>التمويل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                 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MON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5b3300"/>
              </a:buClr>
              <a:buFont typeface="Wingdings" charset="2"/>
              <a:buChar char="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13d955"/>
                </a:solidFill>
                <a:latin typeface="Tahoma"/>
                <a:cs typeface="Tahoma"/>
              </a:rPr>
              <a:t>الدقة</a:t>
            </a: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                 </a:t>
            </a:r>
            <a:r>
              <a:rPr b="1" lang="en-US" sz="4000" spc="-1" strike="noStrike">
                <a:solidFill>
                  <a:srgbClr val="13d955"/>
                </a:solidFill>
                <a:latin typeface="Tahoma"/>
                <a:ea typeface="Tahoma"/>
              </a:rPr>
              <a:t>ACCUR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3370A-CA1C-4B51-9864-70C4D6F8E6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95280" y="189000"/>
            <a:ext cx="828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ahoma"/>
                <a:cs typeface="Tahoma"/>
              </a:rPr>
              <a:t>قبل تحديد الهدف لا بد من الإجابة على الأسئلة التالية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4920" y="1989000"/>
            <a:ext cx="867564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ماهية الصناعة التي تمارسها الشركة</a:t>
            </a:r>
            <a:r>
              <a:rPr b="1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63760" y="2492280"/>
            <a:ext cx="634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نوعية منتجات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80960" y="350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وضع الشركة في السو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80960" y="4437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حجم المناف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809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    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زبائن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34F82-88CA-4322-9D83-95F3802F21A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68360" y="260280"/>
            <a:ext cx="82296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فرص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أسواق (حجمها ـ تقسيماتها ـ توزيعها …..)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زبائ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حجم الطلب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تنوع المنتجات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تطور التق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اقتصاد الوط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و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8BCB-A1ED-47FE-8D94-A1EFD65253B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 </a:t>
            </a: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معوقات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تجات البديل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سعار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انهيار الاقتصادي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نظمة والقوانين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157F1-C470-45C3-8170-E59545670A9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-433440" y="380880"/>
            <a:ext cx="910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3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ية الوصول إلى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واستغلالها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-900000" y="1844640"/>
            <a:ext cx="95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التغلب على التحديات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في الأسواق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6360" y="3929040"/>
            <a:ext cx="863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توظيف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لاستخدامها كموارد هامة تستفيد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منها الشركة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32236-5C0A-4D3E-8274-F328EB6A1C8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765000"/>
          <a:ext cx="7346880" cy="4897440"/>
        </p:xfrm>
        <a:graphic>
          <a:graphicData uri="http://schemas.openxmlformats.org/drawingml/2006/table">
            <a:tbl>
              <a:tblPr/>
              <a:tblGrid>
                <a:gridCol w="1366920"/>
                <a:gridCol w="2738160"/>
                <a:gridCol w="3241800"/>
              </a:tblGrid>
              <a:tr h="151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قوي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74000" rIns="828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فر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74000" marR="82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33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ضعي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تحديدا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heel spokes="2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B0DB9-07E8-4F6D-B55A-33FEA8A77F9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145040" y="2841480"/>
            <a:ext cx="4572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Courier New"/>
                <a:cs typeface="Courier New"/>
              </a:rPr>
              <a:t>هــــو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620640"/>
          <a:ext cx="8059680" cy="5359320"/>
        </p:xfrm>
        <a:graphic>
          <a:graphicData uri="http://schemas.openxmlformats.org/drawingml/2006/table">
            <a:tbl>
              <a:tblPr/>
              <a:tblGrid>
                <a:gridCol w="216000"/>
                <a:gridCol w="593640"/>
                <a:gridCol w="1308240"/>
                <a:gridCol w="2987640"/>
                <a:gridCol w="2954160"/>
              </a:tblGrid>
              <a:tr h="1617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ar-SA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أنـــــــــــــــــــــــــــــــــــــــــا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ضعيـف           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قـوي</a:t>
                      </a: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قو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أقوي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</a:t>
                      </a: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نا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ق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9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نا قـ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ضعف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4" name="Text Box 40"/>
          <p:cNvSpPr/>
          <p:nvPr/>
        </p:nvSpPr>
        <p:spPr>
          <a:xfrm rot="16200000">
            <a:off x="-155160" y="33505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ahoma"/>
              </a:rPr>
              <a:t>هــــــــــــــــــــ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1C80A-A805-467E-B8B6-CEB9ECAAF3C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476280"/>
            <a:ext cx="86868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بيئة الدا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هيكل الإداري والتنظيمي في الشرك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إنتاج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بشر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تمويل المالي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وضع الشركة في السوق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B4888-46FC-44F5-934E-A2E69FC6610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Times New Roman"/>
              </a:rPr>
              <a:t>بيئة التسويق والعوامل المؤثرة فيه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690560"/>
            <a:ext cx="8229600" cy="4114800"/>
          </a:xfrm>
          <a:prstGeom prst="rect">
            <a:avLst/>
          </a:prstGeom>
          <a:noFill/>
          <a:ln w="936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99"/>
                </a:solidFill>
                <a:latin typeface="Tahoma"/>
                <a:cs typeface="Arabic Transparent"/>
              </a:rPr>
              <a:t>تتأثر المشروعات الصناعية بالعديد من العوامل المحيطة بالمشروع وهي مؤثرات خارجية وداخلية، بعض هذه العوامل يمكن السيطرة عليها والبعض لا يمكن السيطرة عليها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02462-1DEA-48C2-85E3-9E1E0B31E1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600" spc="-1" strike="noStrike">
                <a:solidFill>
                  <a:srgbClr val="e5ffff"/>
                </a:solidFill>
                <a:latin typeface="Arabic Typesetting"/>
                <a:cs typeface="Arabic Typesetting"/>
              </a:rPr>
              <a:t>وهو مزيج من الأنشطة الأربعة الأساسية</a:t>
            </a:r>
            <a:r>
              <a:rPr b="1" lang="en-US" sz="6600" spc="-1" strike="noStrike">
                <a:solidFill>
                  <a:srgbClr val="e5ffff"/>
                </a:solidFill>
                <a:latin typeface="Arabic Typesetting"/>
                <a:ea typeface="Arabic Typesetting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683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السلعة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السعر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أسواق التوزيع والتروي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Courier New"/>
              </a:rPr>
              <a:t>تعتمد استراتيجية المزيج التسويقي على التناسق والتناغم بين العناصر الأربعة</a:t>
            </a:r>
            <a:r>
              <a:rPr b="1" lang="en-US" sz="3600" spc="-1" strike="noStrike">
                <a:solidFill>
                  <a:srgbClr val="ffcc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just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13d955"/>
                </a:solidFill>
                <a:latin typeface="Courier New"/>
              </a:rPr>
              <a:t>التوازن بين ما تنتجه الشركة والأساليب المستخدمة للوصول إلى الأسواق لتحقيق الربح المطلوب وإشباع الحاجات تحقيق الرغبات</a:t>
            </a:r>
            <a:r>
              <a:rPr b="1" lang="en-US" sz="3600" spc="-1" strike="noStrike">
                <a:solidFill>
                  <a:srgbClr val="13d955"/>
                </a:solidFill>
                <a:latin typeface="Tahoma"/>
                <a:ea typeface="Tahom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E5885-1A34-4E2F-8963-B29F4246F2D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تحليل</a:t>
            </a:r>
            <a:r>
              <a:rPr b="0" lang="ar-SA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المنافسين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-327672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3600" spc="-1" strike="noStrike">
                <a:solidFill>
                  <a:srgbClr val="00ccff"/>
                </a:solidFill>
                <a:latin typeface="Times New Roman"/>
              </a:rPr>
              <a:t>المنافسة الافتراضية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57200" y="170028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</a:rPr>
              <a:t>ـ المنافسة المباشر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5720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افسة المتوقعة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57200" y="3483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تجات البديلة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63480" y="428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تعزيز التواصل مع الممولي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4604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زوال التواصل مع الزبائ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ACE6-000F-422D-99C9-21CE7387124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380880"/>
            <a:ext cx="8229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لجعل الهدف أكثر فاعلية نتعرف إلى ماهية القرارات المتعلقة باستراتيجيات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356FE-8E7F-439A-9FBA-72DE9C089C2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14273c"/>
              </a:gs>
              <a:gs pos="50000">
                <a:srgbClr val="2b5481"/>
              </a:gs>
              <a:gs pos="100000">
                <a:srgbClr val="1427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مفهوم الخطة الاستراتيجية ل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13d955"/>
                </a:solidFill>
                <a:latin typeface="Tahoma"/>
                <a:cs typeface="Tahoma"/>
              </a:rPr>
              <a:t>ما المقصود بالإستراتيجية؟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هي مجموعة من الخطط توضع لتنفيذ هدف أو أهداف الشركة للوصول إلى تنفيذ رسالة  (أو غاية ) الشركة التي وضع الهدف من أجلها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022E4-B5AB-47F5-956A-E2FA8465093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"/>
          <p:cNvSpPr/>
          <p:nvPr/>
        </p:nvSpPr>
        <p:spPr>
          <a:xfrm>
            <a:off x="395280" y="907920"/>
            <a:ext cx="8424720" cy="4465800"/>
          </a:xfrm>
          <a:custGeom>
            <a:avLst/>
            <a:gdLst>
              <a:gd name="textAreaLeft" fmla="*/ 1307520 w 8424720"/>
              <a:gd name="textAreaRight" fmla="*/ 7117200 w 8424720"/>
              <a:gd name="textAreaTop" fmla="*/ 693000 h 4465800"/>
              <a:gd name="textAreaBottom" fmla="*/ 377280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05" y="21600"/>
                </a:lnTo>
                <a:lnTo>
                  <a:pt x="1849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لابد من تحديد استراتيجية التسويق باعتبار أن التسويق هو الهدف الأساسي لأي منشأ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DCCAA-3CFA-49FA-BDA4-E7B85596BD4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836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شرك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ي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مكن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ذه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بمعايي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م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نو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حال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ل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ن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تسويق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ق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خ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فر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لمخاط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موجود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سواق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297F4-F266-4CB0-9D22-797E24E4AC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564000" y="380880"/>
            <a:ext cx="5122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ffff99"/>
                </a:solidFill>
                <a:uFillTx/>
                <a:latin typeface="Courier New"/>
              </a:rPr>
              <a:t>الواقع التحليل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أن خطة التسويق الاستراتيجية يجب أن توضع من خلال التحليل التسويقي باستخدام الأدوات التالي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46376-476C-4E8E-BDA6-5D23459534E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24000" y="1052640"/>
            <a:ext cx="8229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خارج المنشأة لابد من إجراء مسح شامل لبيئة السوق، وتحليل لواقع المنافسة، وللمستهلك والوضع الاقتصادي، والحكومي، والتكنولوجي…الخ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59:46Z</dcterms:created>
  <dc:creator>pc</dc:creator>
  <dc:description/>
  <dc:language>en-US</dc:language>
  <cp:lastModifiedBy>M.A.S tech</cp:lastModifiedBy>
  <dcterms:modified xsi:type="dcterms:W3CDTF">2022-02-26T14:01:36Z</dcterms:modified>
  <cp:revision>105</cp:revision>
  <dc:subject/>
  <dc:title>تحديد نقاط الضعف والقوة والفرص والتحديات</dc:title>
</cp:coreProperties>
</file>