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72C-13E0-477D-97B0-873EC7F0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2DB-8543-4D02-AD50-9A1C2B9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F8C-6438-4332-84AC-37E39043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624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48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624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48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0BE-20CB-4B97-90EB-861D1FBA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2C5-1E6E-464B-8D42-40F33065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CDC-DF66-47B8-9C7B-6C95B234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296-C970-40CA-AB02-01E91CAA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B1B-2712-4156-B91C-5EBF5B49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79752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BA9-7580-4572-829A-1F501D10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023-5EDD-4321-AA32-85BCA30E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E67-C23F-4E17-ACFB-F0A21B92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2BC-04DE-4D33-94F6-B0CB3EA5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68600" y="9944280"/>
            <a:ext cx="241776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800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D143-C131-4E42-B2E8-301B037D503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88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3D39-8087-4FF6-ADE1-B749590DF9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22-07-01T05:49:53Z</dcterms:modified>
  <cp:revision>1</cp:revision>
  <dc:subject/>
  <dc:title>Presentation PowerPoint</dc:title>
</cp:coreProperties>
</file>